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0A092-0280-4422-AF12-53EF3204D43D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import </a:t>
            </a:r>
            <a:r>
              <a:rPr b="1" lang="tr-TR" sz="900" spc="-1" strike="noStrike">
                <a:solidFill>
                  <a:srgbClr val="6a8759"/>
                </a:solidFill>
                <a:latin typeface="Calibri"/>
              </a:rPr>
              <a:t>'package:flutter/material.dart'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900"/>
            </a:b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void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main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) {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  runApp(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MaterialApp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    home: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MyApp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debugShowCheckedModeBanner: 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false,</a:t>
            </a: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theme: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ThemeData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primarySwatch: Colors.</a:t>
            </a:r>
            <a:r>
              <a:rPr b="1" i="1" lang="tr-TR" sz="9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900"/>
            </a:b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MyApp 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StatefulWidget {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tr-TR" sz="9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900"/>
            </a:br>
            <a:r>
              <a:rPr b="1" lang="tr-TR" sz="9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createState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) =&gt;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_MyAppState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900"/>
            </a:b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State&lt;MyApp&gt; {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tr-TR" sz="9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900"/>
            </a:br>
            <a:r>
              <a:rPr b="1" lang="tr-TR" sz="9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Widget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build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BuildContext context) {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return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Scaffold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      appBar: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AppBar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        title: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tr-TR" sz="900" spc="-1" strike="noStrike">
                <a:solidFill>
                  <a:srgbClr val="6a8759"/>
                </a:solidFill>
                <a:latin typeface="Calibri"/>
              </a:rPr>
              <a:t>"TMYO APP"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centerTitle: 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true,</a:t>
            </a: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body: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Center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        child: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tr-TR" sz="900" spc="-1" strike="noStrike">
                <a:solidFill>
                  <a:srgbClr val="6a8759"/>
                </a:solidFill>
                <a:latin typeface="Calibri"/>
              </a:rPr>
              <a:t>"Taskopru MYO - Kastamonu"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style: </a:t>
            </a:r>
            <a:r>
              <a:rPr b="1" lang="tr-TR" sz="900" spc="-1" strike="noStrike">
                <a:solidFill>
                  <a:srgbClr val="ffc66d"/>
                </a:solidFill>
                <a:latin typeface="Calibri"/>
              </a:rPr>
              <a:t>TextStyle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(fontSize: </a:t>
            </a:r>
            <a:r>
              <a:rPr b="1" lang="tr-TR" sz="900" spc="-1" strike="noStrike">
                <a:solidFill>
                  <a:srgbClr val="6897bb"/>
                </a:solidFill>
                <a:latin typeface="Calibri"/>
              </a:rPr>
              <a:t>20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900"/>
            </a:br>
            <a:r>
              <a:rPr b="1" lang="tr-TR" sz="9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900"/>
            </a:br>
            <a:r>
              <a:rPr b="1" lang="tr-TR" sz="9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97043-8C20-4EC4-9A1C-DAD9541FAB28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import </a:t>
            </a:r>
            <a:r>
              <a:rPr b="1" lang="tr-TR" sz="800" spc="-1" strike="noStrike">
                <a:solidFill>
                  <a:srgbClr val="6a8759"/>
                </a:solidFill>
                <a:latin typeface="Calibri"/>
              </a:rPr>
              <a:t>'package:flutter/material.dart'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800"/>
            </a:b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void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main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) {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  runApp(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MaterialApp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    home: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MyApp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debugShowCheckedModeBanner: 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false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theme: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ThemeData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primarySwatch: Colors.</a:t>
            </a:r>
            <a:r>
              <a:rPr b="1" i="1" lang="tr-TR" sz="8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800"/>
            </a:b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MyApp 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StatefulWidget {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tr-TR" sz="8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800"/>
            </a:br>
            <a:r>
              <a:rPr b="1" lang="tr-TR" sz="8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createState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) =&gt;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_MyAppState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800"/>
            </a:b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State&lt;MyApp&gt; {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tr-TR" sz="8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800"/>
            </a:br>
            <a:r>
              <a:rPr b="1" lang="tr-TR" sz="8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Widget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build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BuildContext context) {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return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Scaffold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      appBar: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AppBar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        title: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tr-TR" sz="800" spc="-1" strike="noStrike">
                <a:solidFill>
                  <a:srgbClr val="6a8759"/>
                </a:solidFill>
                <a:latin typeface="Calibri"/>
              </a:rPr>
              <a:t>"TMYO APP"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centerTitle: 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true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body: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Center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          child: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Container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        width: </a:t>
            </a:r>
            <a:r>
              <a:rPr b="1" lang="tr-TR" sz="800" spc="-1" strike="noStrike">
                <a:solidFill>
                  <a:srgbClr val="6897bb"/>
                </a:solidFill>
                <a:latin typeface="Calibri"/>
              </a:rPr>
              <a:t>250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height: </a:t>
            </a:r>
            <a:r>
              <a:rPr b="1" lang="tr-TR" sz="800" spc="-1" strike="noStrike">
                <a:solidFill>
                  <a:srgbClr val="6897bb"/>
                </a:solidFill>
                <a:latin typeface="Calibri"/>
              </a:rPr>
              <a:t>100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color: Colors.</a:t>
            </a:r>
            <a:r>
              <a:rPr b="1" i="1" lang="tr-TR" sz="8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tr-TR" sz="800" spc="-1" strike="noStrike">
                <a:solidFill>
                  <a:srgbClr val="6897bb"/>
                </a:solidFill>
                <a:latin typeface="Calibri"/>
              </a:rPr>
              <a:t>100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child: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tr-TR" sz="800" spc="-1" strike="noStrike">
                <a:solidFill>
                  <a:srgbClr val="6a8759"/>
                </a:solidFill>
                <a:latin typeface="Calibri"/>
              </a:rPr>
              <a:t>"Taskopru Myo - Kastamonu"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style: </a:t>
            </a:r>
            <a:r>
              <a:rPr b="1" lang="tr-TR" sz="800" spc="-1" strike="noStrike">
                <a:solidFill>
                  <a:srgbClr val="ffc66d"/>
                </a:solidFill>
                <a:latin typeface="Calibri"/>
              </a:rPr>
              <a:t>TextStyle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(fontSize: </a:t>
            </a:r>
            <a:r>
              <a:rPr b="1" lang="tr-TR" sz="800" spc="-1" strike="noStrike">
                <a:solidFill>
                  <a:srgbClr val="6897bb"/>
                </a:solidFill>
                <a:latin typeface="Calibri"/>
              </a:rPr>
              <a:t>20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800"/>
            </a:br>
            <a:r>
              <a:rPr b="1" lang="tr-TR" sz="8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800"/>
            </a:br>
            <a:r>
              <a:rPr b="1" lang="tr-TR" sz="8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3A8D7-408E-4CA6-89E3-18793134634B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import </a:t>
            </a:r>
            <a:r>
              <a:rPr b="1" lang="tr-TR" sz="700" spc="-1" strike="noStrike">
                <a:solidFill>
                  <a:srgbClr val="6a8759"/>
                </a:solidFill>
                <a:latin typeface="Calibri"/>
              </a:rPr>
              <a:t>'package:flutter/material.dart'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700"/>
            </a:b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void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main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) {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runApp(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MaterialApp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  home: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MyApp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debugShowCheckedModeBanner: 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false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theme: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ThemeData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primarySwatch: Colors.</a:t>
            </a:r>
            <a:r>
              <a:rPr b="1" i="1" lang="tr-TR" sz="7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700"/>
            </a:b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MyApp 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StatefulWidget {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tr-TR" sz="7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700"/>
            </a:br>
            <a:r>
              <a:rPr b="1" lang="tr-TR" sz="7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createState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) =&gt;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_MyAppState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700"/>
            </a:b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class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_MyAppState 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extends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State&lt;MyApp&gt; {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tr-TR" sz="700" spc="-1" strike="noStrike">
                <a:solidFill>
                  <a:srgbClr val="bbb529"/>
                </a:solidFill>
                <a:latin typeface="Calibri"/>
              </a:rPr>
              <a:t>@override</a:t>
            </a:r>
            <a:br>
              <a:rPr sz="700"/>
            </a:br>
            <a:r>
              <a:rPr b="1" lang="tr-TR" sz="700" spc="-1" strike="noStrike">
                <a:solidFill>
                  <a:srgbClr val="bbb529"/>
                </a:solidFill>
                <a:latin typeface="Calibri"/>
              </a:rPr>
              <a:t>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Widget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build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BuildContext context) {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return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Scaffold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    appBar: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AppBar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      title: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tr-TR" sz="700" spc="-1" strike="noStrike">
                <a:solidFill>
                  <a:srgbClr val="6a8759"/>
                </a:solidFill>
                <a:latin typeface="Calibri"/>
              </a:rPr>
              <a:t>"TMYO APP"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centerTitle: 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true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body: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Center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        child: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Container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      width: </a:t>
            </a:r>
            <a:r>
              <a:rPr b="1" lang="tr-TR" sz="700" spc="-1" strike="noStrike">
                <a:solidFill>
                  <a:srgbClr val="6897bb"/>
                </a:solidFill>
                <a:latin typeface="Calibri"/>
              </a:rPr>
              <a:t>400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height: </a:t>
            </a:r>
            <a:r>
              <a:rPr b="1" lang="tr-TR" sz="700" spc="-1" strike="noStrike">
                <a:solidFill>
                  <a:srgbClr val="6897bb"/>
                </a:solidFill>
                <a:latin typeface="Calibri"/>
              </a:rPr>
              <a:t>100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decoration: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BoxDecoration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        color: Colors.</a:t>
            </a:r>
            <a:r>
              <a:rPr b="1" i="1" lang="tr-TR" sz="700" spc="-1" strike="noStrike">
                <a:solidFill>
                  <a:srgbClr val="9876aa"/>
                </a:solidFill>
                <a:latin typeface="Calibri"/>
              </a:rPr>
              <a:t>red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tr-TR" sz="700" spc="-1" strike="noStrike">
                <a:solidFill>
                  <a:srgbClr val="6897bb"/>
                </a:solidFill>
                <a:latin typeface="Calibri"/>
              </a:rPr>
              <a:t>100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border: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Border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all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          color: Colors.</a:t>
            </a:r>
            <a:r>
              <a:rPr b="1" i="1" lang="tr-TR" sz="700" spc="-1" strike="noStrike">
                <a:solidFill>
                  <a:srgbClr val="9876aa"/>
                </a:solidFill>
                <a:latin typeface="Calibri"/>
              </a:rPr>
              <a:t>black54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width: </a:t>
            </a:r>
            <a:r>
              <a:rPr b="1" lang="tr-TR" sz="700" spc="-1" strike="noStrike">
                <a:solidFill>
                  <a:srgbClr val="6897bb"/>
                </a:solidFill>
                <a:latin typeface="Calibri"/>
              </a:rPr>
              <a:t>5</a:t>
            </a:r>
            <a:br>
              <a:rPr sz="700"/>
            </a:br>
            <a:r>
              <a:rPr b="1" lang="tr-TR" sz="700" spc="-1" strike="noStrike">
                <a:solidFill>
                  <a:srgbClr val="6897bb"/>
                </a:solidFill>
                <a:latin typeface="Calibri"/>
              </a:rPr>
              <a:t>    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borderRadius: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BorderRadius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all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Radius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circular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tr-TR" sz="700" spc="-1" strike="noStrike">
                <a:solidFill>
                  <a:srgbClr val="6897bb"/>
                </a:solidFill>
                <a:latin typeface="Calibri"/>
              </a:rPr>
              <a:t>30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))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      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padding: 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const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EdgeInsets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all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tr-TR" sz="700" spc="-1" strike="noStrike">
                <a:solidFill>
                  <a:srgbClr val="6897bb"/>
                </a:solidFill>
                <a:latin typeface="Calibri"/>
              </a:rPr>
              <a:t>30.0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child: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Text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tr-TR" sz="700" spc="-1" strike="noStrike">
                <a:solidFill>
                  <a:srgbClr val="6a8759"/>
                </a:solidFill>
                <a:latin typeface="Calibri"/>
              </a:rPr>
              <a:t>"Taskopru Myo - Kastamonu"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textAlign: TextAlign.</a:t>
            </a:r>
            <a:r>
              <a:rPr b="1" lang="tr-TR" sz="700" spc="-1" strike="noStrike">
                <a:solidFill>
                  <a:srgbClr val="9876aa"/>
                </a:solidFill>
                <a:latin typeface="Calibri"/>
              </a:rPr>
              <a:t>center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style: </a:t>
            </a:r>
            <a:r>
              <a:rPr b="1" lang="tr-TR" sz="700" spc="-1" strike="noStrike">
                <a:solidFill>
                  <a:srgbClr val="ffc66d"/>
                </a:solidFill>
                <a:latin typeface="Calibri"/>
              </a:rPr>
              <a:t>TextStyle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(fontSize: </a:t>
            </a:r>
            <a:r>
              <a:rPr b="1" lang="tr-TR" sz="700" spc="-1" strike="noStrike">
                <a:solidFill>
                  <a:srgbClr val="6897bb"/>
                </a:solidFill>
                <a:latin typeface="Calibri"/>
              </a:rPr>
              <a:t>20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)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,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;</a:t>
            </a:r>
            <a:br>
              <a:rPr sz="700"/>
            </a:br>
            <a:r>
              <a:rPr b="1" lang="tr-TR" sz="700" spc="-1" strike="noStrike">
                <a:solidFill>
                  <a:srgbClr val="cc7832"/>
                </a:solidFill>
                <a:latin typeface="Calibri"/>
              </a:rPr>
              <a:t>  </a:t>
            </a: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700"/>
            </a:br>
            <a:r>
              <a:rPr b="1" lang="tr-TR" sz="700" spc="-1" strike="noStrike">
                <a:solidFill>
                  <a:srgbClr val="000000"/>
                </a:solidFill>
                <a:latin typeface="Calibri"/>
              </a:rPr>
              <a:t>}</a:t>
            </a: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ayt Numarası Yer Tutucus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1D4A0-4B8B-40A0-9A5E-8E494C463C82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A60-9768-473E-8556-A49C87A0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A45-9DE0-48B0-B0DF-59726675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2C3-F60D-4781-9E5D-943038E9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0930-A90B-47AF-B840-480F3213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552-10FE-4057-8786-107A9D05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01C-B2BB-442C-BFAE-79372B5B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838-4EA7-4C7D-B601-26983D88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2212-59F5-4212-A89B-A726EBCE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2AB-CEAD-46E4-8D8C-74781A89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7A8-E718-460F-BDC7-C5101467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0DC-5B0C-4DBC-B07B-079CC069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9B9-0B48-446D-ADC2-A10CF5D3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A7E31-33A4-40EB-8888-079ACBB9B66C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" name="Group 17"/>
          <p:cNvGrpSpPr/>
          <p:nvPr/>
        </p:nvGrpSpPr>
        <p:grpSpPr>
          <a:xfrm>
            <a:off x="61560" y="-304920"/>
            <a:ext cx="3214440" cy="3279600"/>
            <a:chOff x="61560" y="-304920"/>
            <a:chExt cx="3214440" cy="3279600"/>
          </a:xfrm>
        </p:grpSpPr>
        <p:sp>
          <p:nvSpPr>
            <p:cNvPr id="6" name="AutoShape 15"/>
            <p:cNvSpPr/>
            <p:nvPr/>
          </p:nvSpPr>
          <p:spPr>
            <a:xfrm rot="10800000">
              <a:off x="61560" y="-152280"/>
              <a:ext cx="2712600" cy="2989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AutoShape 16"/>
            <p:cNvSpPr/>
            <p:nvPr/>
          </p:nvSpPr>
          <p:spPr>
            <a:xfrm rot="10800000">
              <a:off x="217800" y="-304920"/>
              <a:ext cx="3058200" cy="3279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Group 13"/>
          <p:cNvGrpSpPr/>
          <p:nvPr/>
        </p:nvGrpSpPr>
        <p:grpSpPr>
          <a:xfrm>
            <a:off x="-2774880" y="-282600"/>
            <a:ext cx="3671640" cy="3097080"/>
            <a:chOff x="-2774880" y="-282600"/>
            <a:chExt cx="3671640" cy="3097080"/>
          </a:xfrm>
        </p:grpSpPr>
        <p:sp>
          <p:nvSpPr>
            <p:cNvPr id="9" name="AutoShape 11"/>
            <p:cNvSpPr/>
            <p:nvPr/>
          </p:nvSpPr>
          <p:spPr>
            <a:xfrm>
              <a:off x="-2220480" y="-136440"/>
              <a:ext cx="3117240" cy="2822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9964" y="3020"/>
                  </a:moveTo>
                  <a:cubicBezTo>
                    <a:pt x="-8720" y="8287"/>
                    <a:pt x="-1536" y="19583"/>
                    <a:pt x="-1536" y="32000"/>
                  </a:cubicBezTo>
                  <a:cubicBezTo>
                    <a:pt x="-1536" y="-21120"/>
                    <a:pt x="-8720" y="-9824"/>
                    <a:pt x="-19964" y="-4557"/>
                  </a:cubicBezTo>
                  <a:cubicBezTo>
                    <a:pt x="-19965" y="-4557"/>
                    <a:pt x="-19965" y="-4557"/>
                    <a:pt x="-19965" y="-4557"/>
                  </a:cubicBezTo>
                  <a:lnTo>
                    <a:pt x="-19964" y="-4556"/>
                  </a:lnTo>
                  <a:lnTo>
                    <a:pt x="-19964" y="3020"/>
                  </a:lnTo>
                  <a:lnTo>
                    <a:pt x="-19965" y="3020"/>
                  </a:lnTo>
                  <a:cubicBezTo>
                    <a:pt x="-19965" y="3020"/>
                    <a:pt x="-19965" y="3020"/>
                    <a:pt x="-19964" y="3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>
              <a:off x="-2774880" y="-282600"/>
              <a:ext cx="3514320" cy="3097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920" y="5972"/>
                  </a:moveTo>
                  <a:cubicBezTo>
                    <a:pt x="-6520" y="11980"/>
                    <a:pt x="-1536" y="21672"/>
                    <a:pt x="-1536" y="32000"/>
                  </a:cubicBezTo>
                  <a:cubicBezTo>
                    <a:pt x="-1536" y="-23209"/>
                    <a:pt x="-6520" y="-13517"/>
                    <a:pt x="-14920" y="-7509"/>
                  </a:cubicBezTo>
                  <a:cubicBezTo>
                    <a:pt x="-14920" y="-7509"/>
                    <a:pt x="-14920" y="-7509"/>
                    <a:pt x="-14921" y="-7509"/>
                  </a:cubicBezTo>
                  <a:lnTo>
                    <a:pt x="-14920" y="-7508"/>
                  </a:lnTo>
                  <a:lnTo>
                    <a:pt x="-14920" y="5972"/>
                  </a:lnTo>
                  <a:lnTo>
                    <a:pt x="-14921" y="5972"/>
                  </a:lnTo>
                  <a:cubicBezTo>
                    <a:pt x="-14920" y="5972"/>
                    <a:pt x="-14920" y="5972"/>
                    <a:pt x="-14920" y="5972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2"/>
          <p:cNvSpPr/>
          <p:nvPr/>
        </p:nvSpPr>
        <p:spPr>
          <a:xfrm>
            <a:off x="1187280" y="2798640"/>
            <a:ext cx="1025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Arial"/>
                <a:ea typeface="Arial"/>
              </a:rPr>
              <a:t>Flutter ile </a:t>
            </a:r>
            <a:r>
              <a:rPr b="1" lang="tr-TR" sz="4400" spc="-1" strike="noStrike">
                <a:solidFill>
                  <a:srgbClr val="04599c"/>
                </a:solidFill>
                <a:latin typeface="Arial"/>
                <a:ea typeface="Arial"/>
              </a:rPr>
              <a:t>Mobil Uygulama Geliştir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2"/>
          <p:cNvSpPr/>
          <p:nvPr/>
        </p:nvSpPr>
        <p:spPr>
          <a:xfrm>
            <a:off x="2208240" y="38354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1800" spc="-1" strike="noStrike">
                <a:solidFill>
                  <a:srgbClr val="04599c"/>
                </a:solidFill>
                <a:latin typeface="Arial"/>
                <a:ea typeface="Arial"/>
              </a:rPr>
              <a:t>1. Bölü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Metin Yer Tutucusu 2"/>
          <p:cNvSpPr/>
          <p:nvPr/>
        </p:nvSpPr>
        <p:spPr>
          <a:xfrm>
            <a:off x="3298680" y="4921200"/>
            <a:ext cx="5594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599c"/>
                </a:solidFill>
                <a:latin typeface="Calibri"/>
              </a:rPr>
              <a:t>Dr. Sevdanur GEN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599c"/>
                </a:solidFill>
                <a:latin typeface="Calibri"/>
              </a:rPr>
              <a:t>https://github.com/SevdanurGE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Resim 8" descr=""/>
          <p:cNvPicPr/>
          <p:nvPr/>
        </p:nvPicPr>
        <p:blipFill>
          <a:blip r:embed="rId1"/>
          <a:stretch/>
        </p:blipFill>
        <p:spPr>
          <a:xfrm>
            <a:off x="387360" y="3662280"/>
            <a:ext cx="3805200" cy="316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Execute Only Dart Code After Installing Flutter | by Jean Luc Kabulu |  Flutter Community | Medium"/>
          <p:cNvPicPr/>
          <p:nvPr/>
        </p:nvPicPr>
        <p:blipFill>
          <a:blip r:embed="rId2"/>
          <a:stretch/>
        </p:blipFill>
        <p:spPr>
          <a:xfrm>
            <a:off x="3559320" y="384120"/>
            <a:ext cx="5506920" cy="2081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Architecht"/>
          <p:cNvPicPr/>
          <p:nvPr/>
        </p:nvPicPr>
        <p:blipFill>
          <a:blip r:embed="rId3"/>
          <a:stretch/>
        </p:blipFill>
        <p:spPr>
          <a:xfrm>
            <a:off x="8404200" y="4776840"/>
            <a:ext cx="3753000" cy="138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Ekran Tasarım Widget’ları - CENTER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353600"/>
            <a:ext cx="10515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çinde belirtiğimiz nesneyi ekranın merkezine taşımaktadır. Tek bir widget taşıyabildiği için child kullanılmaktadı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97" name="Resim 2" descr=""/>
          <p:cNvPicPr/>
          <p:nvPr/>
        </p:nvPicPr>
        <p:blipFill>
          <a:blip r:embed="rId2"/>
          <a:stretch/>
        </p:blipFill>
        <p:spPr>
          <a:xfrm>
            <a:off x="2430360" y="2133720"/>
            <a:ext cx="7481880" cy="461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Ekran Tasarım Widget’ları - CONTAINER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6800" y="1353600"/>
            <a:ext cx="3673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Widget’ı bir kutuymuş gibi düşünebilirsiniz. Yani sayfayı bir kutunun içerisine yerleştiriyor ve tasarlıyormuşsunuz gibi düşünebilirsin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Containe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ile sayfanın tüm özelliklerini kendiniz tasarlayabilirsiniz. Tek bir widget aldığı için 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child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kullanılmakta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101" name="Resim 8" descr=""/>
          <p:cNvPicPr/>
          <p:nvPr/>
        </p:nvPicPr>
        <p:blipFill>
          <a:blip r:embed="rId2"/>
          <a:stretch/>
        </p:blipFill>
        <p:spPr>
          <a:xfrm>
            <a:off x="4429080" y="1353960"/>
            <a:ext cx="7677360" cy="482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Ekran Tasarım Widget’ları - CONTAINER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353600"/>
            <a:ext cx="10515600" cy="4822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A simplified introduction to Dart and Flutter | by Sameeha Rahman |  freeCodeCamp.org | Medium"/>
          <p:cNvPicPr/>
          <p:nvPr/>
        </p:nvPicPr>
        <p:blipFill>
          <a:blip r:embed="rId2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105" name="Resim 4" descr=""/>
          <p:cNvPicPr/>
          <p:nvPr/>
        </p:nvPicPr>
        <p:blipFill>
          <a:blip r:embed="rId3"/>
          <a:stretch/>
        </p:blipFill>
        <p:spPr>
          <a:xfrm>
            <a:off x="1019160" y="1125360"/>
            <a:ext cx="10153800" cy="563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Ekran Tasarım Widget’ları - CONTAINER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1353600"/>
            <a:ext cx="10515600" cy="4822920"/>
          </a:xfrm>
          <a:prstGeom prst="rect">
            <a:avLst/>
          </a:prstGeom>
          <a:ln w="0">
            <a:noFill/>
          </a:ln>
        </p:spPr>
      </p:pic>
      <p:pic>
        <p:nvPicPr>
          <p:cNvPr id="108" name="Resim 2" descr=""/>
          <p:cNvPicPr/>
          <p:nvPr/>
        </p:nvPicPr>
        <p:blipFill>
          <a:blip r:embed="rId2"/>
          <a:stretch/>
        </p:blipFill>
        <p:spPr>
          <a:xfrm>
            <a:off x="1298520" y="1125360"/>
            <a:ext cx="9595080" cy="5612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Ekran Tasarım Widget’ları - 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PADDING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353960"/>
            <a:ext cx="4394160" cy="52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dget’lar aras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ında boşluk bırakabilmek iç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EdgeInsets.all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10) ile bütün kenarlardan aynı uzaklıkta mesafe ayarlan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EdgeInsets.only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right: 5) ile örnek olarak sadece sağ taraftan uzaklığını ayarlarız. Bunu sağ/sol/üst/alt olarak değiştirebiliri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EdgeInsets.fromLTRB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5, 10, 15, 20) ile sırayla, L= sol, T = üst, R = sağ, B = alt olmak üzere her köşesine farklı değerde uzaklıklar ayarayabiliri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EdgeInsets.symmetric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vertical: 5) / </a:t>
            </a:r>
            <a:r>
              <a:rPr b="1" lang="tr-TR" sz="2200" spc="-1" strike="noStrike">
                <a:solidFill>
                  <a:srgbClr val="000000"/>
                </a:solidFill>
                <a:latin typeface="Calibri"/>
              </a:rPr>
              <a:t>EdgeInsets.symmetric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horizontal: 5) ile simetrik olarak uzaklık ayarlayabiliriz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Resim 2" descr=""/>
          <p:cNvPicPr/>
          <p:nvPr/>
        </p:nvPicPr>
        <p:blipFill>
          <a:blip r:embed="rId1"/>
          <a:stretch/>
        </p:blipFill>
        <p:spPr>
          <a:xfrm>
            <a:off x="5303880" y="1773360"/>
            <a:ext cx="6818400" cy="401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Ekran Tasarım Widget’ları - ROW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1353600"/>
            <a:ext cx="10515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Row widget’ı ile birlikte diğer widget’ları satır üzerinde yan yana sıralayabiliyoruz. Birden fazla widget aldığı için 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children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kullanılmaktadı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Resim 2" descr=""/>
          <p:cNvPicPr/>
          <p:nvPr/>
        </p:nvPicPr>
        <p:blipFill>
          <a:blip r:embed="rId1"/>
          <a:stretch/>
        </p:blipFill>
        <p:spPr>
          <a:xfrm>
            <a:off x="2027160" y="2060640"/>
            <a:ext cx="8137440" cy="469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364680"/>
            <a:ext cx="104392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Ekran Tasarım Widget’ları - ROW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040" y="1268280"/>
            <a:ext cx="8061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mainAxisAlignment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ainAxisAlignment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.start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le satırın başlangıç noktasına göre hizalama işlemi başlatılı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mainAxisAlignment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MainAxisAlignment.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ile satırı ortalayarak hizalama işlemini başlat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mainAxisAlignment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MainAxisAlignment.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ile satırın sonundan itibaren hizalama işlemini başlatı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mainAxisAlignment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MainAxisAlignment.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spaceBetween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ile nesneleri satıra yayarak aralarında boşluk bırakarak hizalayacaktı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mainAxisAlignment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MainAxisAlignment.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spaceEvenly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le satır üzerinde her bir nesnenin başında ve sonunda boşluk olacak şekilde uzaklık bırakmaktadı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Resim 2" descr=""/>
          <p:cNvPicPr/>
          <p:nvPr/>
        </p:nvPicPr>
        <p:blipFill>
          <a:blip r:embed="rId1"/>
          <a:stretch/>
        </p:blipFill>
        <p:spPr>
          <a:xfrm>
            <a:off x="9180360" y="836640"/>
            <a:ext cx="2748240" cy="961920"/>
          </a:xfrm>
          <a:prstGeom prst="rect">
            <a:avLst/>
          </a:prstGeom>
          <a:ln w="0">
            <a:noFill/>
          </a:ln>
        </p:spPr>
      </p:pic>
      <p:pic>
        <p:nvPicPr>
          <p:cNvPr id="118" name="Resim 4" descr=""/>
          <p:cNvPicPr/>
          <p:nvPr/>
        </p:nvPicPr>
        <p:blipFill>
          <a:blip r:embed="rId2"/>
          <a:stretch/>
        </p:blipFill>
        <p:spPr>
          <a:xfrm>
            <a:off x="9151920" y="1851120"/>
            <a:ext cx="2766960" cy="1057320"/>
          </a:xfrm>
          <a:prstGeom prst="rect">
            <a:avLst/>
          </a:prstGeom>
          <a:ln w="0">
            <a:noFill/>
          </a:ln>
        </p:spPr>
      </p:pic>
      <p:pic>
        <p:nvPicPr>
          <p:cNvPr id="119" name="Resim 6" descr=""/>
          <p:cNvPicPr/>
          <p:nvPr/>
        </p:nvPicPr>
        <p:blipFill>
          <a:blip r:embed="rId3"/>
          <a:stretch/>
        </p:blipFill>
        <p:spPr>
          <a:xfrm>
            <a:off x="9142560" y="2998800"/>
            <a:ext cx="2776320" cy="1082520"/>
          </a:xfrm>
          <a:prstGeom prst="rect">
            <a:avLst/>
          </a:prstGeom>
          <a:ln w="0">
            <a:noFill/>
          </a:ln>
        </p:spPr>
      </p:pic>
      <p:pic>
        <p:nvPicPr>
          <p:cNvPr id="120" name="Resim 8" descr=""/>
          <p:cNvPicPr/>
          <p:nvPr/>
        </p:nvPicPr>
        <p:blipFill>
          <a:blip r:embed="rId4"/>
          <a:stretch/>
        </p:blipFill>
        <p:spPr>
          <a:xfrm>
            <a:off x="9161640" y="4173480"/>
            <a:ext cx="2766960" cy="1009800"/>
          </a:xfrm>
          <a:prstGeom prst="rect">
            <a:avLst/>
          </a:prstGeom>
          <a:ln w="0">
            <a:noFill/>
          </a:ln>
        </p:spPr>
      </p:pic>
      <p:pic>
        <p:nvPicPr>
          <p:cNvPr id="121" name="Resim 10" descr=""/>
          <p:cNvPicPr/>
          <p:nvPr/>
        </p:nvPicPr>
        <p:blipFill>
          <a:blip r:embed="rId5"/>
          <a:stretch/>
        </p:blipFill>
        <p:spPr>
          <a:xfrm>
            <a:off x="9151920" y="5283360"/>
            <a:ext cx="275760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64680"/>
            <a:ext cx="104392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Ekran Tasarım Widget’ları - 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OLUM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268280"/>
            <a:ext cx="1043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olumn widget’ı ile birlikte diğer widget’ları sütun üzerinde alt alta sıralayabiliyoruz. Birden fazla widget aldığı için 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children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kullanılmaktadı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Resim 2" descr=""/>
          <p:cNvPicPr/>
          <p:nvPr/>
        </p:nvPicPr>
        <p:blipFill>
          <a:blip r:embed="rId1"/>
          <a:stretch/>
        </p:blipFill>
        <p:spPr>
          <a:xfrm>
            <a:off x="1946160" y="1989000"/>
            <a:ext cx="8299440" cy="4761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364680"/>
            <a:ext cx="104392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mainAxisAlignment 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- </a:t>
            </a: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crossAxisAlignmen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268280"/>
            <a:ext cx="1043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5e5e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e5e5e"/>
                </a:solidFill>
                <a:latin typeface="Cabin"/>
              </a:rPr>
              <a:t>Column ve Row widget’ları benzer özelliklerdedir. Sadece içine aldıkları widget</a:t>
            </a:r>
            <a:r>
              <a:rPr b="0" lang="en-US" sz="2400" spc="-1" strike="noStrike">
                <a:solidFill>
                  <a:srgbClr val="5e5e5e"/>
                </a:solidFill>
                <a:latin typeface="Cabin"/>
              </a:rPr>
              <a:t>`</a:t>
            </a:r>
            <a:r>
              <a:rPr b="0" lang="tr-TR" sz="2400" spc="-1" strike="noStrike">
                <a:solidFill>
                  <a:srgbClr val="5e5e5e"/>
                </a:solidFill>
                <a:latin typeface="Cabin"/>
              </a:rPr>
              <a:t>larda hizalama yönleri değişiklik gösterir. mainAxisAlignment, Row’da x ekseni olabilirken; Column’da y eksenidir. crossAxisAlignment da, Row’da y ekseni iken; Column’da x ekseni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yönler"/>
          <p:cNvPicPr/>
          <p:nvPr/>
        </p:nvPicPr>
        <p:blipFill>
          <a:blip r:embed="rId1"/>
          <a:stretch/>
        </p:blipFill>
        <p:spPr>
          <a:xfrm>
            <a:off x="2701800" y="2637000"/>
            <a:ext cx="6788160" cy="408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sim 4" descr=""/>
          <p:cNvPicPr/>
          <p:nvPr/>
        </p:nvPicPr>
        <p:blipFill>
          <a:blip r:embed="rId1"/>
          <a:stretch/>
        </p:blipFill>
        <p:spPr>
          <a:xfrm>
            <a:off x="411120" y="1844640"/>
            <a:ext cx="1135368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64680"/>
            <a:ext cx="104392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599c"/>
                </a:solidFill>
                <a:latin typeface="Calibri Light"/>
              </a:rPr>
              <a:t>Ajand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1268280"/>
            <a:ext cx="1043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599c"/>
                </a:solidFill>
                <a:latin typeface="Calibri"/>
              </a:rPr>
              <a:t>Flutter Widgets Yapıs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State Kavram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Stateless Widgets Kullanım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Stateful Widgets Kullanım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599c"/>
                </a:solidFill>
                <a:latin typeface="Calibri"/>
              </a:rPr>
              <a:t>Child ve Children Kavram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599c"/>
                </a:solidFill>
                <a:latin typeface="Calibri"/>
              </a:rPr>
              <a:t>Ekran Tasarım Widget’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Pad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599c"/>
                </a:solidFill>
                <a:latin typeface="Calibri"/>
              </a:rPr>
              <a:t>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Google launches Dart 2.5 with intelligent code completion, Flutter 1.9 with  iOS 13 and macOS Catalina support | VentureBeat"/>
          <p:cNvPicPr/>
          <p:nvPr/>
        </p:nvPicPr>
        <p:blipFill>
          <a:blip r:embed="rId1"/>
          <a:stretch/>
        </p:blipFill>
        <p:spPr>
          <a:xfrm>
            <a:off x="7799400" y="1268280"/>
            <a:ext cx="3554280" cy="1778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Flutter Widget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353600"/>
            <a:ext cx="10515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Flutter’ın tamamı nerdeyse Widgets kavramından oluşuy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66" name="Resim 2" descr=""/>
          <p:cNvPicPr/>
          <p:nvPr/>
        </p:nvPicPr>
        <p:blipFill>
          <a:blip r:embed="rId2"/>
          <a:stretch/>
        </p:blipFill>
        <p:spPr>
          <a:xfrm>
            <a:off x="1979640" y="1830240"/>
            <a:ext cx="8232840" cy="490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Widgets Kavramı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7720" y="1353960"/>
            <a:ext cx="641052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Widget’lar hazır olarak verilmiş bileşenlerd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Her bir arayüz elemanı birer widget’d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Widget’ları kullanarak kolay ve hızlı bir şekilde uygulamanızı geliştirebilirsiniz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Widget içerisinde widget kullanabilirsiniz. Bunun için widget yapısını kavramak önemlidir. Bazı widgetlar, içine sadece bir widget kabul ederken; bazı widgetlar içine birden çok widget kabul edebiliy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Flutter’ın sunduğu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Widget Catalog</a:t>
            </a: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’da detaylı bilgiler bulunmaktad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459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4599c"/>
                </a:solidFill>
                <a:latin typeface="Calibri"/>
              </a:rPr>
              <a:t>https://flutter.dev/docs/development/ui/widg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lutter Widgets - Javatpoint"/>
          <p:cNvPicPr/>
          <p:nvPr/>
        </p:nvPicPr>
        <p:blipFill>
          <a:blip r:embed="rId2"/>
          <a:stretch/>
        </p:blipFill>
        <p:spPr>
          <a:xfrm>
            <a:off x="7319880" y="12207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Widgets Kavramı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7720" y="1353960"/>
            <a:ext cx="6481800" cy="52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En sık kullanılan widget’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MaterialApp Widget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: En zengin widgetlardan biridir. Main sınıfımızda projemizi oluşturduktan sonra 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run app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etodu içerisine genellikle bir 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material app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eririz. Diğer widget’ları kullanabilmek için özellikle yönlendirme işlemi için MaterialApp widgetına ihtiyaç duyarız. Uygulamamızı oluştururken, en dış kısmı olarak bu widgetı düşünebilir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Scaffold Widgetı 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Ekran demektir. Eğer scaffold oluşturmazsak, içerisine ne eklersek ekleyelim siyah bir ekran görürüz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AppBar Widget 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caffold ile oluşturduğumuz ekranın içinde, üst kısımda oluşturduğumuz bir yapıdır. Burada uygulamanın adını yazabilir, üstte çıkan çizgi gibi alanın rengini değiştirebilir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Flutter Widgets - Javatpoint"/>
          <p:cNvPicPr/>
          <p:nvPr/>
        </p:nvPicPr>
        <p:blipFill>
          <a:blip r:embed="rId2"/>
          <a:stretch/>
        </p:blipFill>
        <p:spPr>
          <a:xfrm>
            <a:off x="7319880" y="12207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State Kavramı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353600"/>
            <a:ext cx="10515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State :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Oluşturduğumuz uygulamanın </a:t>
            </a: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durumu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olarak tanımlanabilir. Ekranın anlık görüntüsüdür. Bir ekranın görüntüsünü yani State’i etkileyen birçok </a:t>
            </a: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widget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vardır. State değiştiğinde, ekrandaki görüntü de değişir. O yüzden, kullandığımız widgetlara göre state seçimini doğru kulanmalısını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What is the relation between stateful and stateless widgets in Flutter? -  Stack Overflow"/>
          <p:cNvPicPr/>
          <p:nvPr/>
        </p:nvPicPr>
        <p:blipFill>
          <a:blip r:embed="rId2"/>
          <a:stretch/>
        </p:blipFill>
        <p:spPr>
          <a:xfrm>
            <a:off x="3181320" y="3394080"/>
            <a:ext cx="5829480" cy="338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State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Less</a:t>
            </a: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Widget Kullanımı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353600"/>
            <a:ext cx="10515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tateless Widge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çağırdığınız zaman bir işlev yapmay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ü ağır olmay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sabit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ayfalarda kullanılını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rneğin:  Icon, IconButton ve  Text  widgetlarında kullanılınır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82" name="Resim 4" descr=""/>
          <p:cNvPicPr/>
          <p:nvPr/>
        </p:nvPicPr>
        <p:blipFill>
          <a:blip r:embed="rId2"/>
          <a:stretch/>
        </p:blipFill>
        <p:spPr>
          <a:xfrm>
            <a:off x="2147760" y="2492280"/>
            <a:ext cx="7896240" cy="425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State</a:t>
            </a: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Ful</a:t>
            </a: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Widget Kullanımı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353600"/>
            <a:ext cx="10515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tateful, Stateless widgetın aksine daha 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yoğun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isler ve 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hareket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gerektiren durumlarda  kullanırız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eri 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ışverişi, kullanıcı eylemi vb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urumlarda kullanılır. Örneğin: Checkbox, Radio, Slider, InkWell, Form, ve TextField gibi etkileşiml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e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inami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widgetlar kullanılı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86" name="Resim 4" descr=""/>
          <p:cNvPicPr/>
          <p:nvPr/>
        </p:nvPicPr>
        <p:blipFill>
          <a:blip r:embed="rId2"/>
          <a:stretch/>
        </p:blipFill>
        <p:spPr>
          <a:xfrm>
            <a:off x="2639880" y="2774880"/>
            <a:ext cx="7272360" cy="3907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 Light"/>
              </a:rPr>
              <a:t>Child ve Children Kavramı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7720" y="1353600"/>
            <a:ext cx="5394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: tek bi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get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 al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ildren</a:t>
            </a:r>
            <a:r>
              <a:rPr b="1" lang="tr-TR" sz="2800" spc="-1" strike="noStrike">
                <a:solidFill>
                  <a:srgbClr val="000000"/>
                </a:solidFill>
                <a:latin typeface="Calibri"/>
              </a:rPr>
              <a:t> 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irden fazla widget alır ve bunları bir widget listesinde tut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A simplified introduction to Dart and Flutter | by Sameeha Rahman |  freeCodeCamp.org | Medium"/>
          <p:cNvPicPr/>
          <p:nvPr/>
        </p:nvPicPr>
        <p:blipFill>
          <a:blip r:embed="rId1"/>
          <a:stretch/>
        </p:blipFill>
        <p:spPr>
          <a:xfrm>
            <a:off x="9912240" y="3240"/>
            <a:ext cx="2279880" cy="855720"/>
          </a:xfrm>
          <a:prstGeom prst="rect">
            <a:avLst/>
          </a:prstGeom>
          <a:ln w="0">
            <a:noFill/>
          </a:ln>
        </p:spPr>
      </p:pic>
      <p:pic>
        <p:nvPicPr>
          <p:cNvPr id="90" name="Resim 4" descr=""/>
          <p:cNvPicPr/>
          <p:nvPr/>
        </p:nvPicPr>
        <p:blipFill>
          <a:blip r:embed="rId2"/>
          <a:stretch/>
        </p:blipFill>
        <p:spPr>
          <a:xfrm>
            <a:off x="1989000" y="3797280"/>
            <a:ext cx="342432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Resim 6" descr=""/>
          <p:cNvPicPr/>
          <p:nvPr/>
        </p:nvPicPr>
        <p:blipFill>
          <a:blip r:embed="rId3"/>
          <a:stretch/>
        </p:blipFill>
        <p:spPr>
          <a:xfrm>
            <a:off x="2351160" y="1868400"/>
            <a:ext cx="2592360" cy="579600"/>
          </a:xfrm>
          <a:prstGeom prst="rect">
            <a:avLst/>
          </a:prstGeom>
          <a:ln w="0">
            <a:noFill/>
          </a:ln>
        </p:spPr>
      </p:pic>
      <p:pic>
        <p:nvPicPr>
          <p:cNvPr id="92" name="Resim 8" descr=""/>
          <p:cNvPicPr/>
          <p:nvPr/>
        </p:nvPicPr>
        <p:blipFill>
          <a:blip r:embed="rId4"/>
          <a:stretch/>
        </p:blipFill>
        <p:spPr>
          <a:xfrm>
            <a:off x="6926400" y="2052720"/>
            <a:ext cx="2260440" cy="2654280"/>
          </a:xfrm>
          <a:prstGeom prst="rect">
            <a:avLst/>
          </a:prstGeom>
          <a:ln w="0">
            <a:noFill/>
          </a:ln>
        </p:spPr>
      </p:pic>
      <p:pic>
        <p:nvPicPr>
          <p:cNvPr id="93" name="Resim 10" descr=""/>
          <p:cNvPicPr/>
          <p:nvPr/>
        </p:nvPicPr>
        <p:blipFill>
          <a:blip r:embed="rId5"/>
          <a:stretch/>
        </p:blipFill>
        <p:spPr>
          <a:xfrm>
            <a:off x="9551880" y="2146320"/>
            <a:ext cx="1989360" cy="229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20:06:39Z</dcterms:created>
  <dc:creator>Koray</dc:creator>
  <dc:description/>
  <dc:language>en-US</dc:language>
  <cp:lastModifiedBy>Nano</cp:lastModifiedBy>
  <dcterms:modified xsi:type="dcterms:W3CDTF">2022-04-09T01:16:59Z</dcterms:modified>
  <cp:revision>2343</cp:revision>
  <dc:subject/>
  <dc:title>T.C SÜLEYMAN DEMİREL ÜNİVERSİTESİ TEKNİK EĞİTİM FAKÜLTESİ  MAKİNE EĞİTİMİ   YÜKSEK LİSANS  BİLİMSEL ARAŞTIRMA VE YAZMA   ARAŞTIRMA TEKNİKLERİ VE RAPOR YAZMA  Prof.Dr. Rauf ARIKAN  HAZIRLAYAN; Koray ÖZSOY  DANIŞMAN; DOÇ.DR.ABDULLAH ÖZSOY  ISPARTA 2005</dc:title>
</cp:coreProperties>
</file>